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F2C65-615D-499C-B22A-EA36954BB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D90B-A5A8-46E6-9E04-277B5E34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86F6F-10D6-46FF-B5F0-EF772AA17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3BA60-FEA4-4920-BC5B-FB9C2CDAE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5248-84DF-4B08-B039-508A96A76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11593-1FF7-4009-A8FB-9B172AA26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7E0EC-2C64-424D-AF3B-CFF802268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A3532-051C-42F1-955E-190B980D5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94C8-C237-417A-96BE-4CE057FB7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326C-66BD-4B97-A132-F1169CDB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EA09-BCD4-4E2D-8D32-12E55DB1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C6C6-50F0-4892-B2CF-E6D015821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D1F5-D99A-41BC-B4A3-4EF4DC196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ction Ti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Logan En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observation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ge have an effect on how fast your reaction time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s the last time you cheeked how fast your reaction was? If you want to know, than just do this stuff.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 for this experiment is because I have always wondered if my family members have faster reaction time because of age. I have tried to test it before but didn’t know how. I decided that I could use our Wii Sports to help test my problem.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my older sister (who is 16) will have the best reaction time because teenagers have lots of energy and you can think fast when you have lots of energy. After you’re an adult, the older you get the slower you get according to most people I kno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i S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per/penc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of my family (8 people to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ther all stuff needed to do projec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they are doing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each family member 3 times separat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verybody’s time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variable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 variable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you are from the T.V.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6Z</dcterms:created>
  <dc:creator>USD376</dc:creator>
  <dc:description/>
  <dc:language>en-US</dc:language>
  <cp:lastModifiedBy>USD376</cp:lastModifiedBy>
  <dcterms:modified xsi:type="dcterms:W3CDTF">2010-01-11T20:10:19Z</dcterms:modified>
  <cp:revision>3</cp:revision>
  <dc:subject/>
  <dc:title>Reaction Time</dc:title>
</cp:coreProperties>
</file>